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C2C8-FE16-4D07-91B3-42982CB8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8F4-E0C5-4833-9B7A-C5E00C9C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A95-26F0-4F89-B06E-1BCD2EEC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C54-B82B-4125-A9D3-C9B060F6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0C43-15BE-41FD-AEA0-A38FA822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77EC-BAD3-45BE-8D72-796F5C2C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E83D-DD0C-4590-842D-91E5C08C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5A4C-0D07-401A-A0AE-CA06FF8E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CE67-8AAE-406E-9E30-5E7C170E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4FD6-D935-46A7-8E3B-1EB93EB0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928D-E488-4096-98F2-61747352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BE0-4E91-402F-9251-730F8A56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8B50-8F75-43D7-8E37-8CD2BA08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515C-726B-42A5-B7B4-6749F04E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3C2B-BF7C-4B71-8F32-6600EF17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1985-AB37-477F-AD65-4FFEBF2D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C307-5E9F-4097-8814-B12C39B0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B310-55B9-4B3C-AAF6-76F2D583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71B-4F61-4441-82CE-AF3D9F51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AB4-BBD9-41B8-BC3C-48498080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C88-4FF2-4260-90DA-47D1EB5A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670-36DB-4260-A36E-0D5D9832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297-2D93-4227-A6E5-C153AD2B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0C50-E90D-4B7B-9626-023FCD8B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908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F272-7A55-4082-B950-B7FD21102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24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CD8D-9845-493E-98B3-0A411DB67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9440" y="1773000"/>
            <a:ext cx="8296200" cy="20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cial Relationship: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rriages in Germa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5400" y="4191120"/>
            <a:ext cx="8211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ille Lop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 Titles and 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79440" y="1828800"/>
            <a:ext cx="7908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rticle #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riage in German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ttp://www.topics-mag.com/internatl/weddings/german-wedding.h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rticle #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rman Wedding Lore &amp; Tradi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ttp://www.weddingdetails.com/lore-tradition/germany/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rticle #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me-sex Marriage in German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ttp://germany.angloinfo.com/family/marriage-partnerships/same-sex-marriage/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ulture Pho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socialrelationship_family_marriage_lopez"/>
          <p:cNvPicPr/>
          <p:nvPr/>
        </p:nvPicPr>
        <p:blipFill>
          <a:blip r:embed="rId1"/>
          <a:stretch/>
        </p:blipFill>
        <p:spPr>
          <a:xfrm>
            <a:off x="1143000" y="1447920"/>
            <a:ext cx="711504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ce between Germany and U.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62120" y="16761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towns “punish” single people over the age of 30 by cleaning the city h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vil wedding takes place 6 weeks before the actual marriage in the city h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ouple wants to have a church wedding then the civil wedding happens a week or a day before the wedd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terabend: friends and families break old porcelains in front of the bride and groom for good lu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uple leaves the dinner AFTER the last guest le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olterab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2680" y="5954400"/>
            <a:ext cx="7238880" cy="90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travelscopia.com/wp-content/uploads/2011/05/Polterabend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9450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radi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6640" y="1600200"/>
            <a:ext cx="72388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gagement ring (gold band) is placed on the left hand ring finger before the marriage. It then goes on the right hand ring finger after the wedd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es get a wedding contract (similar to prenuptial agreement)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iratsvertr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ide doesn’t throw a bouquet of flowers to the bridesmaid. The bridesmaids have to dance around the bride (who’s blindfolded) and they’ll get pick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lyweds share a piece of bread for a future full of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seen as a bad luck for brides to take off their crowns before mid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read Sha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38000" y="579276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eddingsetups.com/wp-content/uploads/2010/03/Picture+3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9960" y="3027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me-sex Marri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066680" y="1600200"/>
            <a:ext cx="71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: Life Partnership Act was passed by the German Parliament (take last names, allowed to be divorced, may support each other financial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: Revised the act; can't testify each other, may apply for state pension, and allowed to adopt biological childr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parties have to be 18 years old or older to be wed (parental supervision is needed if they're 14 to 17 years ol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Germans may apply for citizenship if they're getting married to a German citiz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goes through the process of civil marri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 (LSVD) 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031000" cy="3354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2438280" y="5411880"/>
            <a:ext cx="61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hnenversand.de/fotw/images/d/de%7Dlsvd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31720" y="1752480"/>
            <a:ext cx="7250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e bride have to wear till midnight or else it'll be considered as a bad luc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h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many does the couple have to have their civil wedding prior to their real wedding d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4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5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96720" y="1851120"/>
            <a:ext cx="74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(cr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(6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05:00Z</dcterms:created>
  <dc:creator>SCSadmin</dc:creator>
  <dc:description/>
  <cp:keywords/>
  <dc:language>en-US</dc:language>
  <cp:lastModifiedBy>SCSadmin</cp:lastModifiedBy>
  <cp:lastPrinted>1899-12-30T00:00:00Z</cp:lastPrinted>
  <dcterms:modified xsi:type="dcterms:W3CDTF">2012-11-01T12:57:53Z</dcterms:modified>
  <cp:revision>17</cp:revision>
  <dc:subject/>
  <dc:title>Marriages in German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30</vt:lpwstr>
  </property>
</Properties>
</file>